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6066-62D2-4B52-B27D-963F67475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186B-B81C-4B73-B0A8-07E7F5EB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40FB-26AC-401B-A117-D78D44D7D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1A11-A710-4A9F-A783-C507F93D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BCF9-19B1-4FAD-88A1-3FC045F1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9B8B-A420-4E76-993A-223FCA1B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F196-122A-437A-9C56-05AA7328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91ED-1594-4C33-BCD8-C79B3426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F9C7-3109-4EBE-853A-EDC4F70E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5F34-2E07-4E1A-8A6D-C6EA6540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8CD9-F4BE-4E98-9672-EDD7BF5A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6925-C243-4CB2-A1F7-7DDE9CE6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A724-1627-4FC9-B11E-D14503983D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ÐÐ°ÑÑÐ¸Ð½ÐºÐ¸ Ð¿Ð¾ Ð·Ð°Ð¿ÑÐ¾ÑÑ Ð²Ð¾ÑÐºÐ»Ð¸ÑÐ°ÑÐµÐ»ÑÐ½ÑÐ¹  Ð·Ð½Ð°Ðº Ð´Ð»Ñ Ð¿ÑÐµÐ·ÐµÐ½ÑÐ°ÑÐ¸Ð¸"/>
          <p:cNvPicPr/>
          <p:nvPr/>
        </p:nvPicPr>
        <p:blipFill>
          <a:blip r:embed="rId1"/>
          <a:stretch/>
        </p:blipFill>
        <p:spPr>
          <a:xfrm>
            <a:off x="-142920" y="4000680"/>
            <a:ext cx="571680" cy="1039680"/>
          </a:xfrm>
          <a:prstGeom prst="rect">
            <a:avLst/>
          </a:prstGeom>
          <a:ln w="0">
            <a:noFill/>
          </a:ln>
        </p:spPr>
      </p:pic>
      <p:grpSp>
        <p:nvGrpSpPr>
          <p:cNvPr id="42" name="Прямоугольник 3"/>
          <p:cNvGrpSpPr/>
          <p:nvPr/>
        </p:nvGrpSpPr>
        <p:grpSpPr>
          <a:xfrm>
            <a:off x="4297320" y="781200"/>
            <a:ext cx="2689200" cy="431640"/>
            <a:chOff x="4297320" y="781200"/>
            <a:chExt cx="2689200" cy="431640"/>
          </a:xfrm>
        </p:grpSpPr>
        <p:pic>
          <p:nvPicPr>
            <p:cNvPr id="43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4297320" y="781200"/>
              <a:ext cx="268920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4357800" y="857160"/>
              <a:ext cx="25714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ращ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Прямоугольник 4"/>
          <p:cNvGrpSpPr/>
          <p:nvPr/>
        </p:nvGrpSpPr>
        <p:grpSpPr>
          <a:xfrm>
            <a:off x="152280" y="1249200"/>
            <a:ext cx="5400720" cy="750960"/>
            <a:chOff x="152280" y="1249200"/>
            <a:chExt cx="5400720" cy="750960"/>
          </a:xfrm>
        </p:grpSpPr>
        <p:pic>
          <p:nvPicPr>
            <p:cNvPr id="46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52280" y="1249200"/>
              <a:ext cx="540072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214200" y="1285920"/>
              <a:ext cx="52866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правленные в государственный орган, орган местного самоуправления или должностному лиц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Прямоугольник 5"/>
          <p:cNvGrpSpPr/>
          <p:nvPr/>
        </p:nvGrpSpPr>
        <p:grpSpPr>
          <a:xfrm>
            <a:off x="5583240" y="1200240"/>
            <a:ext cx="3475080" cy="804600"/>
            <a:chOff x="5583240" y="1200240"/>
            <a:chExt cx="3475080" cy="804600"/>
          </a:xfrm>
        </p:grpSpPr>
        <p:pic>
          <p:nvPicPr>
            <p:cNvPr id="49" name="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5583240" y="1200240"/>
              <a:ext cx="347508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643720" y="1285920"/>
              <a:ext cx="33573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стное обращение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ражданина в государственный орган, орган местного самоуправ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Равнобедренный треугольник 24" descr=""/>
          <p:cNvPicPr/>
          <p:nvPr/>
        </p:nvPicPr>
        <p:blipFill>
          <a:blip r:embed="rId5"/>
          <a:stretch/>
        </p:blipFill>
        <p:spPr>
          <a:xfrm>
            <a:off x="214200" y="1928880"/>
            <a:ext cx="2643480" cy="6429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1"/>
          <p:cNvSpPr/>
          <p:nvPr/>
        </p:nvSpPr>
        <p:spPr>
          <a:xfrm rot="10800000">
            <a:off x="785520" y="1928520"/>
            <a:ext cx="16081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исьменной фор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Прямоугольник 11"/>
          <p:cNvGrpSpPr/>
          <p:nvPr/>
        </p:nvGrpSpPr>
        <p:grpSpPr>
          <a:xfrm>
            <a:off x="1079640" y="2341440"/>
            <a:ext cx="5065560" cy="524160"/>
            <a:chOff x="1079640" y="2341440"/>
            <a:chExt cx="5065560" cy="524160"/>
          </a:xfrm>
        </p:grpSpPr>
        <p:pic>
          <p:nvPicPr>
            <p:cNvPr id="54" name="Прямоугольник 11" descr=""/>
            <p:cNvPicPr/>
            <p:nvPr/>
          </p:nvPicPr>
          <p:blipFill>
            <a:blip r:embed="rId6"/>
            <a:stretch/>
          </p:blipFill>
          <p:spPr>
            <a:xfrm>
              <a:off x="1079640" y="2341440"/>
              <a:ext cx="5065560" cy="5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143000" y="2428920"/>
              <a:ext cx="35719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дложение, заявление, жалоба                                         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ст. 4 ФЗ от 02.05.2008 № 59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Равнобедренный треугольник 24" descr=""/>
          <p:cNvPicPr/>
          <p:nvPr/>
        </p:nvPicPr>
        <p:blipFill>
          <a:blip r:embed="rId7"/>
          <a:stretch/>
        </p:blipFill>
        <p:spPr>
          <a:xfrm>
            <a:off x="2928960" y="1928880"/>
            <a:ext cx="2571840" cy="6429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01"/>
          <p:cNvSpPr/>
          <p:nvPr/>
        </p:nvSpPr>
        <p:spPr>
          <a:xfrm rot="10800000">
            <a:off x="3142800" y="1928520"/>
            <a:ext cx="207180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е электронного докумен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одержимое 2"/>
          <p:cNvSpPr/>
          <p:nvPr/>
        </p:nvSpPr>
        <p:spPr>
          <a:xfrm>
            <a:off x="214200" y="2857680"/>
            <a:ext cx="4857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рассмотрения обращения </a:t>
            </a:r>
            <a:r>
              <a:rPr b="1" i="1" lang="ru-RU" sz="1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30 дней со дня регистрации!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лючение: письменное обращение высшему должностному лицу субъекта РФ, содержащее информацию о фактах возможных нарушений законодательства  РФ в сфере миграции (рассматривается в течении 20 дней)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ÐÐ°ÑÑÐ¸Ð½ÐºÐ¸ Ð¿Ð¾ Ð·Ð°Ð¿ÑÐ¾ÑÑ ÑÐµÐ»Ð¾Ð²ÐµÑÐµÐº Ñ Ð²Ð¾ÑÐºÐ»Ð¸ÑÐ°ÑÐµÐ»ÑÐ½ÑÐ¼ Ð·Ð½Ð°ÐºÐ¾Ð¼"/>
          <p:cNvPicPr/>
          <p:nvPr/>
        </p:nvPicPr>
        <p:blipFill>
          <a:blip r:embed="rId8"/>
          <a:stretch/>
        </p:blipFill>
        <p:spPr>
          <a:xfrm>
            <a:off x="4929120" y="2357280"/>
            <a:ext cx="785880" cy="9162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17"/>
          <p:cNvSpPr/>
          <p:nvPr/>
        </p:nvSpPr>
        <p:spPr>
          <a:xfrm>
            <a:off x="5643720" y="2000160"/>
            <a:ext cx="328608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В обращении гражданин в обязательном порядке обязан указать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наименование государственного органа или органа местного самоуправления, в которые направляет письменное обращение, либо ФИО соответствующего должностного лица, либо должность соответствующего лиц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свои фамилию, имя, отчество (последнее – при наличии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почтовый адрес, по которому должны быть направлен ответ (адрес электронной почты при направлении обращения в форме электронного документа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уведомление о переадресации обращ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суть предложения, заявления или жалоб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личную подпись и дату (при обращении в письменной форме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Прямоугольник 30"/>
          <p:cNvGrpSpPr/>
          <p:nvPr/>
        </p:nvGrpSpPr>
        <p:grpSpPr>
          <a:xfrm>
            <a:off x="225360" y="3517920"/>
            <a:ext cx="5261040" cy="1339920"/>
            <a:chOff x="225360" y="3517920"/>
            <a:chExt cx="5261040" cy="1339920"/>
          </a:xfrm>
        </p:grpSpPr>
        <p:pic>
          <p:nvPicPr>
            <p:cNvPr id="62" name="Прямоугольник 30" descr=""/>
            <p:cNvPicPr/>
            <p:nvPr/>
          </p:nvPicPr>
          <p:blipFill>
            <a:blip r:embed="rId9"/>
            <a:stretch/>
          </p:blipFill>
          <p:spPr>
            <a:xfrm>
              <a:off x="225360" y="3517920"/>
              <a:ext cx="5261040" cy="13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285840" y="3571920"/>
              <a:ext cx="514332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ращения в форме электронных документов (в органы государственного контроля (надзора) и муниципального контроля), могут служить основанием для проведения внеплановой проверки </a:t>
              </a:r>
              <a:r>
                <a:rPr b="0" lang="ru-RU" sz="11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только при условии,</a:t>
              </a: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что они были направлены заявителем с использованием средств информационно-коммуникационных технологий, предусматривающих обязательную авторизацию заявителя в единой системе идентификации и аутентификации (ЕСИА) (ч.2 ст. 10 ФЗ от 26.12.2008               № 294-ФЗ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Прямоугольник 34"/>
          <p:cNvGrpSpPr/>
          <p:nvPr/>
        </p:nvGrpSpPr>
        <p:grpSpPr>
          <a:xfrm>
            <a:off x="225360" y="4791240"/>
            <a:ext cx="5261040" cy="1000080"/>
            <a:chOff x="225360" y="4791240"/>
            <a:chExt cx="5261040" cy="1000080"/>
          </a:xfrm>
        </p:grpSpPr>
        <p:pic>
          <p:nvPicPr>
            <p:cNvPr id="65" name="Прямоугольник 34" descr=""/>
            <p:cNvPicPr/>
            <p:nvPr/>
          </p:nvPicPr>
          <p:blipFill>
            <a:blip r:embed="rId10"/>
            <a:stretch/>
          </p:blipFill>
          <p:spPr>
            <a:xfrm>
              <a:off x="225360" y="4791240"/>
              <a:ext cx="5261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285840" y="4857840"/>
              <a:ext cx="514332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обходимым условием для проведения внеплановой проверки Роспотребнадзором,  является подтверждение обращения за защитой (восстановлением) своих нарушенных прав к юридическому лицу, индивидуальному предпринимателю (пп. «в» п.2 ч.2 ст. 10 ФЗ от 26.12.2008                    № 294-ФЗ)*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Стрелка вниз 40"/>
          <p:cNvSpPr/>
          <p:nvPr/>
        </p:nvSpPr>
        <p:spPr>
          <a:xfrm>
            <a:off x="4572000" y="1143000"/>
            <a:ext cx="214200" cy="142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низ 41"/>
          <p:cNvSpPr/>
          <p:nvPr/>
        </p:nvSpPr>
        <p:spPr>
          <a:xfrm>
            <a:off x="6572160" y="1143000"/>
            <a:ext cx="214560" cy="142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44"/>
          <p:cNvSpPr/>
          <p:nvPr/>
        </p:nvSpPr>
        <p:spPr>
          <a:xfrm>
            <a:off x="214200" y="142920"/>
            <a:ext cx="8786880" cy="6429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обращении граждан в государственные органы и органы местного самоуправления (органы государственного контроля (надзора) и муниципального контрол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7"/>
          <p:cNvSpPr/>
          <p:nvPr/>
        </p:nvSpPr>
        <p:spPr>
          <a:xfrm>
            <a:off x="5572080" y="4714920"/>
            <a:ext cx="332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едеральный закон  от 02.05.2006 № 59-ФЗ «О порядке рассмотрения обращений граждан Российской Федерации» -</a:t>
            </a:r>
            <a:r>
              <a:rPr b="0" lang="ru-RU" sz="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основной закон регулирующий правоотношения, связанные с реализацией гражданами РФ права на обращение в государственные органы и органы местного самоуправления, а также устанавливающий порядок рассмотрения обращени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7"/>
          <p:cNvSpPr/>
          <p:nvPr/>
        </p:nvSpPr>
        <p:spPr>
          <a:xfrm>
            <a:off x="285840" y="5715000"/>
            <a:ext cx="51433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аспространяется на случаи поступления в Роспотребнадзор обращений о фактах возникновения угрозы причинения вреда жизни, здоровью граждан или причинения такого вреда, т.е. когда в обращении указывается на нарушения требований санитарного законодательства (СанПиНов и др.) и законодательства о техническом регулирован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7"/>
          <p:cNvSpPr/>
          <p:nvPr/>
        </p:nvSpPr>
        <p:spPr>
          <a:xfrm>
            <a:off x="5572080" y="5643720"/>
            <a:ext cx="3322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едеральный закон от 26.12.2008 N 294-ФЗ «О защите прав юридических лиц и индивидуальных предпринимателей при осуществлении государственного контроля (надзора) и муниципального контроля» - </a:t>
            </a:r>
            <a:r>
              <a:rPr b="0" lang="ru-RU" sz="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гулирует правоотношения, связанные с реализацией гражданами РФ права на обращение в орган государственного контроля (надзора), орган муниципального контрол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18T08:10:49Z</dcterms:created>
  <dc:creator>Туманова Т.В.</dc:creator>
  <dc:description/>
  <dc:language>en-US</dc:language>
  <cp:lastModifiedBy>Туманова</cp:lastModifiedBy>
  <dcterms:modified xsi:type="dcterms:W3CDTF">2018-12-24T06:15:45Z</dcterms:modified>
  <cp:revision>41</cp:revision>
  <dc:subject/>
  <dc:title>Слайд 1</dc:title>
</cp:coreProperties>
</file>